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5D68-4132-487E-A516-4A3CD5559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0A99-6542-44A0-AEB5-0C3E01C5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B2647-38C8-40CB-9132-0313B864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A4555-E789-4BA0-993D-5492F937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89DA2-56AC-4961-A01D-2122F81F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C5784-9875-4FB5-8759-B63EC1EF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9F333-1354-44CD-8DDB-75C83279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1B85D-2CF0-4388-BA62-3A7E98BA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A327E-4170-4438-B83F-6EC876B0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98DFD-B90B-40CD-B917-65BCCC29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0089E-4310-43ED-AD0E-0B7E059F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4034B-4673-4DB7-8669-59B969925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A24C-93E0-489B-89BC-A81C604EB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A8C4D-0BF4-4466-90D3-467E0CF6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DF40F-CA5A-4798-82AD-2B8463DB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E23ECA-1DB4-4E87-BE01-F1731A9E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FB85E-4E77-4C9E-8ABA-8DF12B72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1D575-084F-4791-84E9-4138FB15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50746-637F-4575-A52A-B2C218D5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A96F98-C8DE-4581-BB0B-7E0F8132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F059D-C2A6-45FB-9037-FFC23676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6915BE-4A59-4D5B-905A-D57D2F44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07E719-EA53-4589-A3FB-7D818E42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C67C-98DF-4BDF-B771-479DBD2B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4BCA5-B6D0-4D40-B6DA-BF884DFF6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D79C4-EAA8-4584-B20C-A244A272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0E3AC-C4CC-41E3-A29A-8966D87E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2A55B-D1FB-486B-AF8E-697B5874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B9931-FD37-4C18-8F9B-D2EDD2B4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8A2AA-8F03-4060-BF24-801FC7A9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C9536-FA29-444A-A94B-662EA5D3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02883-C2BB-4827-9B05-4D7A90E9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8ED5D-AD7A-4348-82BD-D966C9A2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ACF92-5A79-46D7-89D2-C6FE16B6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D7F9-4D1C-4531-A19B-5563F155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A0A3B-D769-4B59-8F58-8FD7A387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4A6EB-266C-4C93-AF5F-DEECDEBC1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D85CE-A838-4022-B1C2-83F80C6F3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5F77E1-BA37-47EE-AC9C-014B11162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7233B8-987D-4708-BDCA-CA53DEE2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97D99E-BD2B-4522-94E8-882E5FD3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D3B76F-F9D2-45A3-862A-4EEE61D1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6148F-7CB0-4EC8-BC4F-6FDAC20E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60702-7FE4-4F4E-89E9-4FC078D5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59E4EC-37A4-4159-A9C2-893990BB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D247-67ED-4705-A678-FF8003B5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D6F0D-1BE0-4A8F-8013-8A6072EF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480954-C81B-4925-AF8F-8BAC78B5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BB9BDB-6452-4720-965E-598A5230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48657C-695F-4594-BE6F-8A2D5B2B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99F17-876F-4E96-A563-C6C200DF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638FB6-E9BA-41D3-9129-EEF56D64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B581A8-EA33-40A6-B488-14836DF1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F49CEF-A49A-457E-B37D-6D3B1FF4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387FA7-1541-4E83-98A5-1CA95EEB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DA4550-5631-4BDE-9F4D-5061F169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650B-8A53-4B1F-85DD-16CD0894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CC999F-1E16-43F1-AAC2-3FB7D57D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5D55CA-07EF-4DA0-9B0A-BC67BB33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102AD5-DC4D-4504-B55F-236852F0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489CC6-2612-4266-8D07-FC7DBB5C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E57FD1-915A-4007-9521-9B66FF3B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1882CB-0D3F-48EF-A021-9ACB14E92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12F2D4-1C3B-4E54-ADA3-776CFB69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219202-96E1-4BA0-8FDF-EF4477FC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27FB55-B1A8-4D5D-AB5F-260897E8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537700-E124-48DD-948A-B9BBBF01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BCD5-3AF3-4FC1-9780-D57998E0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5444E9-2789-4F2B-87C8-C74B1201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B23868-B114-429C-B5A5-CF2BB532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3809FB-B022-4A5C-983C-02582F03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700C4C-2289-4762-B0C0-35B4B10C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7476B8-2B57-485A-808E-7F90D3CA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D8BF12-A5E5-4D00-8770-AFFA4CC6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9D79D5-8F24-4DD9-965B-643D81F0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F03DD8-F91F-4285-82C1-0A503549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4665C3-19E9-42DC-8974-39BD5B7D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DEA2CC-C9D1-40F5-8062-214A8806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8A51-2BE4-45C8-807D-BA6F2248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7A0D41-7877-47E8-A143-55617337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A37186-CBF7-49A3-AE0F-0DD9EE47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1274F9-3031-445A-AF3C-26475DAA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8F2538-D9B4-4EC3-939A-1B0B5316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6AE0F3-85B8-4EE9-926A-70C03E3A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E5E48E-52EB-4586-9C39-66AE723A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7A1A77-9864-4492-AF57-B8358363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E5ECDD-2B03-4AD2-B1EE-E7791702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246630-9E00-4326-B534-12E6AA44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B577B0-F08A-4518-9B79-CC5A9DCD4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2174-9117-41D6-8B0B-DF50E0C5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99ADF3-9CDC-429E-B590-A6E95E477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C80A87-D5AE-4F21-B181-28D8F0C80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E002EE-F83C-4BF7-B939-0DE84714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1B50E6-F3E1-4827-B515-B2DF4F45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EA5CA9-5C16-4D0D-9F24-0A5C3E17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5E4F16-0D38-4303-881A-34DF5A3E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6EC8D4-8ADB-4E79-9F9A-78F647E9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C02EC3-83EA-4F5B-958E-11371845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37DD68-96A8-4EB0-BB00-7017B996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81E54E-CEC6-4CA7-87D4-FAE36AB3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701D-ACD2-456F-951E-F4908C8B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C58AB8-B694-4BE6-AE7F-B605E25C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8D3FB6-F731-4F3C-8052-9680A8BA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710BFE-7423-4024-BEF7-FB4B342C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DA7306-8267-4E66-91EC-0222E0B7F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3B6F12-7BBA-42AE-BA95-93981DC0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DA648A-066A-4C8F-8C9F-EE3FD1A7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01B8EA-E8E0-4474-A056-4971053A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41581C-283E-4A29-AF66-6F920CB8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0EC4D5-B66F-4FD2-84E1-FCBF3D53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7680ED-504F-48E3-8072-C8DBD9E7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9CCA-3371-4C89-8AD8-B8FD2AA1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32CB-688A-4C27-9BB1-BBB572D8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DA8099-95CD-41AC-A8EF-D9C40D62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2D6F92-48BA-496C-AF98-3A90DFA5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FBCFE6-AD17-4862-8782-77E250DA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1125E6-B19D-4391-B983-258481F59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0DB678-F4D7-4F03-9B1D-04669386C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82871A-DA02-419F-9217-95506DE6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E6B953-D437-4C2B-A77C-E925293E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058572-5F71-4280-9FDE-C17DD815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950177-97D1-4B2C-991E-F5C395CE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AD41FE-EAAD-4C92-8EA4-31838BDA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FD20-2643-4899-A43C-29385550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8B4F91-D8F3-4B93-9E9E-72C7787B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893207-9985-44C5-A24B-F14F5C4A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A10612-EFF5-462D-A1B2-C4EE0251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623F01-893D-457F-915C-2012F89A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1D74CF-D549-46B6-92D6-CE1E235B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F8DE51-4385-46F8-BD05-5050B74C4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F01559-2B9A-4A83-AD3C-409705C2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6996FB-4967-495E-9DC7-49FE3C4B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DE1EB8-7C6A-4D38-9BAD-23FC57E7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668E56-D265-43CA-814B-0E6E01F3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B417-0D9D-4B94-9000-4CC90E4B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E90B16-0745-4395-A4AC-750EFCB6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78B5E4-4D2A-4262-9B7B-4301A901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442049-1D29-427B-85DE-22C0EAED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8FFAAC-F65A-41D6-A883-B6A52D3C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513B4D-B24B-4C58-8F57-80CB7796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A21783-131A-4C78-ABA5-C91CBA59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CB002C-15F8-4B21-8813-D5D8EFA9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0D2A45-BFC7-44F3-BE92-7D1323A44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52833A-F610-482F-8453-E01A957C3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78DDAA-BC5B-4439-B15A-E0B69879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AC1F-B5E2-4C49-8257-EC5DFC8C3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54219A-F3F8-441E-BD8E-9B2A5F46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417625-6A3D-438E-A6BF-6B4D27E7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D47571-ADD9-4ED2-9D90-92EA5A82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2891F7-FA19-443F-B3D5-3FF9ED98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2EE6A2-9B20-43D8-8188-73EE9CD0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1DBAF3-F2FE-47A0-8A34-300AAA6E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44D73E-E250-49ED-AB39-1FD795E4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659511-5CE1-404A-8E71-B381B3AD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860EB0-BD75-4F79-9F3C-ED160643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6ACAD6-1A8B-4DD5-8058-741DE978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FDB4-B4C2-440C-B148-B3D6EC47C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594DAF-B727-42FC-9358-4D2DC758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BB717A-844F-4974-AD34-3BA4C7FCF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B6A42D-8798-4FAF-A08B-6AB85E78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026CA4-297B-40FF-9BB8-E2842AD6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33307F-2028-411F-919C-38D161ED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147358-300C-43E0-8C49-E15EA506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497E7F-E0D3-4326-871E-35C53FFD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C6A9D2-4D53-484B-8983-0847F320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E3981F-7B78-4634-8ADD-12BBDD98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CC9A59-0063-4992-9CD9-6BC5A608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6BC5D-128E-4639-8F2E-C71692AC8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6E5A24-BB4B-4A0C-8E56-615153CE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7D1C8B-5009-484B-9B58-3034C231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2E1A17-8F7A-4F5C-B9D3-8D2D79C21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75D743-D358-4FBE-A3EA-420F2FCCE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55C7CF-1B4B-464E-B062-7A6F5A12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0266D7-743C-4679-853B-2CE745B4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5F2E3C-947B-4103-93F1-58AF64D2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8C55FC-493D-4355-A498-EB2A968C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C05BAC-370F-4C92-A836-5CF0B59F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8FBAB0-343E-4890-B466-1A13DBA2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312BD-A65D-46A2-9125-47686614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CFE1DF-5BAD-4CFC-8E49-FE357144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D3F3D0-4567-4005-9218-72F361F5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55FF4B-71F6-46A3-84BC-7D8A8707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525E50-C280-4905-9CBE-629C8DAC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016AEA-36B1-492D-B7A4-6BE765F6F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3554A3-1DED-48A6-BE6F-15CD2E014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7287BB-557D-496C-9481-BF0A2220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A66356-66FB-48D0-B2F9-4EC2F1D3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397751-9F2F-4E71-9A38-571647B4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4AE8AF-778A-45E8-8758-C6523301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BBCE1-F551-4158-9575-24267256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AC5393-75FF-430A-A28C-75E67445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0E499A-4608-4523-963D-D2588B61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8BB6EA-023A-4BA8-9DDD-794C47CD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41B3D9-832D-4214-A91F-2FD49553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076830-73FD-41A2-AB28-42CC3675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A1498B-F370-4802-90D7-6EC273267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2C1772-18F2-4A68-A473-97C8BF4B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6E378-F7CE-47BD-9500-98A944FB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44905-A0EB-4944-9674-74DD5E40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DD46-2E59-475E-8CC1-FFB90E49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EB854-1ED1-4BB6-B36B-3A28A53D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E6B9B-E7F4-4B06-8877-9B57CF9D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47F1F-7BF5-475B-80E6-ABDD91EA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11F0A-A4C1-4462-87CD-00B595F6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383E7-0794-4BEF-BE34-0C2A98ED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8F3D3-123F-46C0-8FA6-0796AE380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3AC3B-2BCB-4B75-8F78-31EC3BBB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0BBEB-76CF-4FC6-AD4F-C8CDD72C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2E11D-B478-465A-94CC-450E9ACD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DC96D-E7D2-4506-AAC5-22B1D960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EC58-C9BB-4404-BD7D-5A232FD3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1B2CC-74A4-400A-9852-172900A1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9F289-FF19-4F08-8A30-F0112912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58862-92E9-4C54-8B1D-077C71DC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2ADF7-5FBD-442E-945A-63A5707B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2D88F-0147-4228-847B-44A31992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2463F-86CD-48BA-AE1C-6F12992C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CA613-3D57-4646-959E-F392B490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E1CE6-E48A-4C34-8799-B1B08B27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183E2-7F40-4B21-A249-8CDAA7C03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9A1C3-3F16-47B5-A643-A52A96EC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C99A-6330-4876-98DA-F1AF7699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9284A-3BC2-41F2-ADDF-7E34A56B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2B72D-625C-4176-83F7-5C5ED649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2F465-5498-42C9-A691-3B81743A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440EA-162A-4782-A8C2-05DCDF9B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4F08C-886B-469D-81A1-D0BD566D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D8FC7-AB39-4644-AA6D-23CA5D11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E10E3-07AA-4C5A-9A59-A7B176C9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A78C7-5EDD-457A-BD8A-A7608611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0FAC7-1915-4110-B137-ED6F2C2F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B3646-ABE8-4D67-993F-4A81D06DD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F5B4-A5E8-4478-A1EA-0B743429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16B22-4C9A-4566-B85A-AACC5436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C9CAC-F0DA-4C8A-BC82-BDFB12958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07B7D-19CF-4F35-8346-B6B6FED9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4E8ED-DBB0-4BAB-B2D8-7927AB54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D293A-1C3E-4F11-9C59-26084C93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8C0DA-9E15-4B19-AFD7-EA9CA836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9C785-E045-4FA9-8940-5E7A9F54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391A2-F54E-4EBE-9085-5BD894B6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2C6EF-4A89-45E6-9FAA-1242EFF1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FAE3E-5703-4095-B9B6-4B51ECF6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EACB-7A23-43D3-80EA-C21DB7B7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0D29D-D0D0-4654-B99B-09721313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3337A-D396-428A-A8E0-70A2EFCA7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AEE20-7A02-4219-B40D-2B946AEE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903AE-822B-414C-B074-74716029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3117D-F826-47F4-81EA-208955F2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23046-E25D-4CD1-803F-0685284A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99542-97D2-4CD4-AB04-0FA996F4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A2B83-DE24-4EE4-99D7-F690A237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EEB82-B4E1-4EAB-B8A4-6DCC6598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1168E-898A-4AA9-883A-02CE864C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9EC8-CBA2-45B2-96E0-77A2DE82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DB833-CCB0-4BBC-B5E3-1245445F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C7749-F739-45EE-B5F9-9D89E564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15C22-FD60-4E36-82FE-D0F2F2D1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DDBB9-A247-49ED-BE34-C1CE85875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5839A-53A2-4E40-87A6-D7895F5B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F7921-BF58-4524-8228-0B2752C6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DC63C-3F15-4E6A-9CAA-398631BC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0058E-FF2C-438C-AEC0-815E0EA0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B2189-02E0-40CF-BA0F-2C44EC4D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A317E-81FC-4BCD-9801-E2DF1138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E94B-68DC-42A4-9837-C9A1DCC4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63263-E1C7-4661-AB97-CB632D36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A7FFF-0BD9-4A4D-BEDA-7FB08C11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DADB0-09AC-4011-A2C2-9D50E5C7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C5EFC-5755-413D-A730-5CD9370C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4D7BC-69AD-4DC1-ADE4-8B0DB177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34F17-5D26-493D-B641-F74AF9FFD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408A9-D425-4817-A620-C0A177B0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86701-CE09-42FC-BF88-772781F1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12C7D-991A-4F06-8D67-62D76176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3AB7C-0CC8-4E2B-87A8-42349182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B0BD-9CA2-4533-8695-F1D31D3BC5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8397-108F-48BB-91E8-248D5E3900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3E46-90AF-4EC2-A2FB-802F79121A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9B23-C3CC-49DF-AAD0-8C1E932483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E1AB-7B26-4658-864B-EC3245BC51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3624-EEF9-4716-9C62-A38AC4D918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8B42-75A5-412C-AA01-4EDF12D9D7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1969-8385-482A-B867-55EF0A00AE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1A8C-4EA7-4A6E-9FD9-FE7F5FB84C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17EF-EC9D-42FB-8AE2-3234B5B222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9C4F-9EEC-4A3C-88A9-58389C8506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EBD6-ED1E-4074-BC75-621E248775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49CF-A9DC-4C78-A6DF-1573C664B6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B67C-C4DA-4CFA-AE8B-143C6C0F11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C485-368C-43E7-9E01-E4BFB09C1B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1CB6-F381-4C4A-B7C8-743EDB16E7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A539-73F6-4747-BF3F-7C382C9B4D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0CD9-DDEC-4C2C-BE54-E4A4F9F203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70FA-B94C-4261-BCF0-C588F24913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B2B0-EE9A-48C3-BCF4-091EF2010A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B2DC-C107-445F-A459-D1DE81320C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677B-A5DA-4E74-A561-4E164D68F7C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91DD-1B3F-4621-9D13-5D31E0DDA7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7F82-76B1-4D72-8935-C38EFF099E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2BBC-8613-462D-B22F-D85B37BC60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A5E9-D1B8-43C8-83CC-EAD45AA86C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625B-072C-44DB-B253-D58FAA7A63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FE5F-83D6-4D7C-B766-271FBD25B9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8E51-A77D-41E1-AC5A-F6995A8F6E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29DD-4872-48CA-811D-DBE97186DD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8B8E-4C31-432E-9711-0EB61A7768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CC22-692A-4D7F-8D57-27E2BF7718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4650-846E-4FBA-AF85-F70EFFCAE7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8EC3-0732-4F23-B3EE-6212B0469B1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8D7D-1A6E-4D59-820B-9B7E33149E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4599-8708-4053-9FF2-0CC2C3C9D8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C10F-19A2-46AC-8DCE-E752C536EA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B724-FC0C-4481-9C46-AFAB4BE420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E7EA-BC74-4094-A437-F0388E15BB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6475-2814-42ED-AD94-ED57E65485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097F-E2D2-4313-9DBA-3AD02856D1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C8C8-C07B-4DB2-9EDC-94CAC0A5E1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776160" y="2800440"/>
            <a:ext cx="75916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314280" y="917640"/>
            <a:ext cx="1835280" cy="433440"/>
          </a:xfrm>
          <a:prstGeom prst="rect">
            <a:avLst/>
          </a:prstGeom>
          <a:ln w="0">
            <a:noFill/>
          </a:ln>
        </p:spPr>
      </p:pic>
      <p:pic>
        <p:nvPicPr>
          <p:cNvPr id="1108" name="图片 2" descr=""/>
          <p:cNvPicPr/>
          <p:nvPr/>
        </p:nvPicPr>
        <p:blipFill>
          <a:blip r:embed="rId2"/>
          <a:stretch/>
        </p:blipFill>
        <p:spPr>
          <a:xfrm>
            <a:off x="314280" y="1547640"/>
            <a:ext cx="8515440" cy="523728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611280" y="155736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611280" y="292428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611280" y="422100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6"/>
          <a:stretch/>
        </p:blipFill>
        <p:spPr>
          <a:xfrm>
            <a:off x="611280" y="508464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7"/>
          <a:stretch/>
        </p:blipFill>
        <p:spPr>
          <a:xfrm>
            <a:off x="611280" y="5931000"/>
            <a:ext cx="36036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图片 1" descr=""/>
          <p:cNvPicPr/>
          <p:nvPr/>
        </p:nvPicPr>
        <p:blipFill>
          <a:blip r:embed="rId1"/>
          <a:stretch/>
        </p:blipFill>
        <p:spPr>
          <a:xfrm>
            <a:off x="104760" y="1905120"/>
            <a:ext cx="8934480" cy="304776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2"/>
          <a:stretch/>
        </p:blipFill>
        <p:spPr>
          <a:xfrm>
            <a:off x="3851280" y="2382840"/>
            <a:ext cx="1152360" cy="29052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3"/>
          <a:stretch/>
        </p:blipFill>
        <p:spPr>
          <a:xfrm>
            <a:off x="2166840" y="2809800"/>
            <a:ext cx="1152720" cy="29052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4"/>
          <a:stretch/>
        </p:blipFill>
        <p:spPr>
          <a:xfrm>
            <a:off x="3203640" y="3260880"/>
            <a:ext cx="1368360" cy="2905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5"/>
          <a:stretch/>
        </p:blipFill>
        <p:spPr>
          <a:xfrm>
            <a:off x="3419640" y="4149720"/>
            <a:ext cx="1368360" cy="2905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6"/>
          <a:stretch/>
        </p:blipFill>
        <p:spPr>
          <a:xfrm>
            <a:off x="3419640" y="4591080"/>
            <a:ext cx="64764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图片 1" descr=""/>
          <p:cNvPicPr/>
          <p:nvPr/>
        </p:nvPicPr>
        <p:blipFill>
          <a:blip r:embed="rId1"/>
          <a:stretch/>
        </p:blipFill>
        <p:spPr>
          <a:xfrm>
            <a:off x="843120" y="1419120"/>
            <a:ext cx="7457760" cy="401976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2"/>
          <a:stretch/>
        </p:blipFill>
        <p:spPr>
          <a:xfrm>
            <a:off x="3059280" y="2843280"/>
            <a:ext cx="1296720" cy="29052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3"/>
          <a:stretch/>
        </p:blipFill>
        <p:spPr>
          <a:xfrm>
            <a:off x="2124000" y="3274920"/>
            <a:ext cx="719280" cy="29052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4"/>
          <a:stretch/>
        </p:blipFill>
        <p:spPr>
          <a:xfrm>
            <a:off x="2771640" y="3726000"/>
            <a:ext cx="1079640" cy="29052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5"/>
          <a:stretch/>
        </p:blipFill>
        <p:spPr>
          <a:xfrm>
            <a:off x="4140360" y="4168800"/>
            <a:ext cx="718920" cy="2905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6"/>
          <a:stretch/>
        </p:blipFill>
        <p:spPr>
          <a:xfrm>
            <a:off x="3059280" y="5041800"/>
            <a:ext cx="108108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图片 1" descr=""/>
          <p:cNvPicPr/>
          <p:nvPr/>
        </p:nvPicPr>
        <p:blipFill>
          <a:blip r:embed="rId1"/>
          <a:stretch/>
        </p:blipFill>
        <p:spPr>
          <a:xfrm>
            <a:off x="100080" y="1528920"/>
            <a:ext cx="8942400" cy="380016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3"/>
          <a:stretch/>
        </p:blipFill>
        <p:spPr>
          <a:xfrm>
            <a:off x="7667640" y="1969920"/>
            <a:ext cx="1297080" cy="2905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4"/>
          <a:stretch/>
        </p:blipFill>
        <p:spPr>
          <a:xfrm>
            <a:off x="395280" y="263700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5"/>
          <a:stretch/>
        </p:blipFill>
        <p:spPr>
          <a:xfrm>
            <a:off x="7667640" y="2617920"/>
            <a:ext cx="1297080" cy="2905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6"/>
          <a:stretch/>
        </p:blipFill>
        <p:spPr>
          <a:xfrm>
            <a:off x="395280" y="328464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7"/>
          <a:stretch/>
        </p:blipFill>
        <p:spPr>
          <a:xfrm>
            <a:off x="7667640" y="3265560"/>
            <a:ext cx="1297080" cy="29052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8"/>
          <a:stretch/>
        </p:blipFill>
        <p:spPr>
          <a:xfrm>
            <a:off x="395280" y="393372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9"/>
          <a:stretch/>
        </p:blipFill>
        <p:spPr>
          <a:xfrm>
            <a:off x="7667640" y="3914640"/>
            <a:ext cx="1297080" cy="2905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10"/>
          <a:stretch/>
        </p:blipFill>
        <p:spPr>
          <a:xfrm>
            <a:off x="395280" y="458136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11"/>
          <a:stretch/>
        </p:blipFill>
        <p:spPr>
          <a:xfrm>
            <a:off x="7667640" y="4562640"/>
            <a:ext cx="129708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43:04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